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B2C2-BB8A-4C79-AC2C-A81C56249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9523-CD8D-41BE-89ED-E14354F58A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1491-1FD2-48FF-9F9D-4A1103F69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5913-BFA1-494A-8E3F-C4FC45B2C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EA00-B9CC-4AED-A41B-634A097678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176B-BD32-483B-AAFD-1F1A69931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7752-6D97-47D9-B0FB-9A51DC37F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5A41-CFD0-4661-9BC7-A3E4A6EE0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8FCE-D8F5-4FEB-A3F1-162607090A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279A-0647-414D-AFCA-0F01165AF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C002-CCC5-4081-9265-2E62742CC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24B0-FB6C-4848-A4AC-0B85694D7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339D-CF1A-45A1-9A93-6ABB69B5C6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65DE-1DB2-4B3B-AE3C-2D8E1111C3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F36C-E6EB-4E55-A73E-FB58D7230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F3C0-8F08-4DC6-99DF-8DAB30644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3E06-9DE8-438D-B3C3-66DDA661C9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51DF-096A-4D2C-A3DC-B34486427F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4937-4973-49DE-A92C-5DB75859A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2657-903F-41C1-9BCE-396AA7B0E5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93A2-F22A-466D-B56D-7146A071A8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EBC0-C0E0-4EB0-8779-A2C4BFBD4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321C-2BFA-4710-A3C6-BAC56CC9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FFB8-A991-4123-B6D2-37F2A727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3FA9-7970-4814-9C1F-D5D068CE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39D5-1A92-400F-A206-7BEBDBB2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3DBC-44C3-46D4-A818-17B3E2B3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60CB-6040-41C1-B44D-AF748544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D554-9806-4496-AAFA-00220A76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8789-0FCE-41EF-98FF-881CEC8C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7B77-7ED6-4721-9ADD-3635B64A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76B9-A852-4F3B-90C3-FE92A4E9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22B6-6DBE-492A-A89A-456CBF58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35CC-B174-4A33-80F9-A7353D66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8B12-BFC9-48AA-B28F-23D64DC5105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Sanal Ortamda Suç Teşkil Eden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 Akışı Tür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898989"/>
                </a:solidFill>
                <a:latin typeface="Calibri"/>
              </a:rPr>
              <a:t>Oturum 1.4.2/1. Sa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ELEKTRONİK HAVALE, BANKA HESAPLARININ DEVRİ/AÇILMAS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Geleneksel Bankacılık Hizm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iber suç failleri de geleneksel bankacılık hizmetlerinden yararlanmaya devam eder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Bu durum elbette bilhassa, mağdurun banka hesaplarından para aktarılmasını içeren durumlar açısından söz konusudu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Geleneksel Bankacılık Hizm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Geleneksel bankacılık sektöründe, bir mağdurun banka hesabından aktarılan paraların kaynağının gizlenmesinde hangi teknikler kul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Elektronik Havale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Mağdur banka hesapları çeşitli siber suç teknikleri kullanılarak (örn. kimlik hırsızlığı, kötü amaçlı yazılım) ihlal edilir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Mağdurun banka hesabına yeni lehdarlar eklenir ve paralar kurye hesaplara aktarılır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Paralar nakit olarak çekilir veya başka noktalara aktarılır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Havaleler bildirim için öngörülen miktarın altında kalması için ufak meblağlarda yapılır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Calibri"/>
              </a:rPr>
              <a:t>Paranın kaynağının gizlenmesi için kurye hesaplara anlamsız aktarımlar içeren karmaşık yapılar kullanılı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Müşterilerin Korunmas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491920"/>
            <a:ext cx="82296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Finans kuruluşları müşterilerin ihlal edilen internet bankacılığı kimliklerinin kötüye kullanılmasını önlemek için ne gibi kontrol araçları kullanı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Elektronik Havale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Elektronik havale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Elektronik Havale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Elektronik havaleni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NAKİT ÇEKİM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Nakit para siber suçlular açısından ne gibi güçlükler yaratıyo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SİZ ne düşünüyorsunuz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Nakit Çekimi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Ödeme kartı ile bağlantılı suçlar gibi kimi siber suç örneklerinde suç gelirleri anında nakit olarak çekili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Başka örneklerde ise başka tür suçlardan elde edilen suç gelirleri kurye hesaplara aktarılır ve buradan çekili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Calibri"/>
              </a:rPr>
              <a:t>Bu nakit paralar genelde çeşitli teknikler kullanılarak yeniden finans sistemine sokulur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Çeşitli türlerde ön ödemeli kartlar satın alınarak (örn. mağaza puanı, cep telefonu kontörü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Para kuryeleri veya ihlal edilmiş banka hesapları kullanılara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Oturum Hedef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anal suçlardan elde edilen şu para akışı türlerini açıklayınız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Para Havalesi Sağlayıcılar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Elektronik Havale, Banka Hesaplarının Devri/Açılmas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Nakit Çeki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İnternet Ödeme Hizmetle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Nakit Çekimlerini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Nakit çekimi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Nakit Çekimlerini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Nakit çekimlerini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İnternet ÖDEME HİZMETLER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Ödeme Hizmeti Nedi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SİZ ne düşünüyorsunuz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Ödeme Hizmeti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Suç yoluyla elde edilen paralar bir İnternet Ödeme Hizmeti hesabına aktarılı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İki seçenek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ternet Ödeme Hizmeti bir sanal banka hesabına benzer hizmetler sunar; yani “internet havalesi/banka hesabı açılması veya devri”ne benzer özellikler kullanılır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ternet Ödeme Hizmetinde tutulan paralar internet üzerinden mal ve hizmet alımında kullanılır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Ödeme Hizmetlerinin 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 Ödeme çekimi kullanım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İnternet Ödeme Hizmetlerinin Kullanım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 ödeme hizmetlerini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998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Calibri"/>
              </a:rPr>
              <a:t>İnternet Ödeme Hizmetlerinden Elde Edilen Paraların/Paralara Dondurulması, El Konulması ve Müsaderes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895480"/>
            <a:ext cx="8229600" cy="39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İnternet ödeme hizmeti sağlayıcısının elindeki paraların/paralara dondurulması, el konulması ve müsaderesi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Öz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Sanal suçlardan elde edilen şu para akışı türlerini açıklayınız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Para Havalesi Sağlayıcılar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Elektronik Havale, Banka Hesaplarının Devri/Açılmas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Nakit Çeki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İnternet Ödeme Hizmetle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3503880" y="4500720"/>
            <a:ext cx="21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Sorul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alibri"/>
              </a:rPr>
              <a:t>PARA HAVALESİ SAĞLAYICILAR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 havalesi sağlayıcısı nedi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SİZ ne düşünüyorsunuz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Para havalesi sağlayıcısı nedi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Havale sağlayıcıları ile ilgili sorun ne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Havale Sağlayıcısı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İnsanlar (bilerek veya bilmeyerek), genellikle “evden çalışın” türünden iş teklifleriyle kara para aklama planlarında kurye olarak çalıştırılı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ç gelirleri kuryelerin banka hesaplarına aktarılı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urye parayı nakit olarak çeker ve bu nakit parayı belirli bir lehdara havale yoluyla aktarı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urye bu hizmeti yerine getirdiği için komisyon olarak bir ödeme alı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u para aktarımları, fark edilmesin diye, bildirim için öngörülen miktarın altındaki bir meblağdan oluşu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Havale sağlayıcıları sonra nakit paranın nihai varış noktasına ulaştırılmasında tekrar kullanılı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Suç Ortağı olan Sağlayıcı Tipoloji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Belirli bir havale sağlayıcının yoğun olarak kullanıldığı tespit edilen durumlar muvazaa ihtimali veya bu türden işlerin içine sızılmış olma olasılığı hakkında soru işaretleri uyandırı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Havale Sağlayıcıları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Kullanıldığ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Havale sağlayıcılarının kullanıldığına delalet olarak ne gibi delil kaynaklarından yararlanılabil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Havale Sağlayıcıları 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Kullanıldığını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TARTIŞMA: Havale sağlayıcılarının tespiti/kullanımı bakımından mevcut/ilgili usul yetkileri hangilerid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Hande Güner</cp:lastModifiedBy>
  <cp:lastPrinted>2016-05-18T07:38:13Z</cp:lastPrinted>
  <dcterms:modified xsi:type="dcterms:W3CDTF">2017-11-09T18:18:03Z</dcterms:modified>
  <cp:revision>338</cp:revision>
  <dc:subject/>
  <dc:title>PowerPoint Presentation</dc:title>
</cp:coreProperties>
</file>